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7FA-5A0A-47E1-85D0-2D932382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407-F234-436C-B85F-CC2A23FE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034-78E8-4D92-BC43-E6B3FF1B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16D-33EC-4B48-A8B6-5F5706BA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B8668-5884-44A8-9CF9-ECDBD1D4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96B0-250E-4A25-B49E-D2DC71F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35FED-251C-4E8C-B43A-CA5A5EC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9B785-59EA-4382-A44A-DDDB789B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9844-E358-4F19-8C48-C806AD8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59B65-3B2D-48B3-BC38-A756B43A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79C85-E520-46F7-9BA8-96D1BE2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48E-486D-4BCE-8A10-4EA4CEDD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7BFD-5DC9-4C11-9B6B-B726D9E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42E2B-5EA4-4D18-A512-0C95110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BA6EE-5A39-4996-A7CF-F9D1450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2788E-B9DF-4E00-94A7-1FFC4A34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5F55-8CAC-42D6-9667-61673CFE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2BE-4919-4545-A675-1E60C08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062-AC4A-4C56-B09E-381475C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8D9-B1B3-42E1-8F74-F9272B4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DEF-8F26-4DEF-9BC7-05E0496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8CA-2F0B-4DBD-AEED-409D48A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E38-3346-489F-98F4-31300CF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398-2274-4433-85CC-FA8B5A6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773-9A5D-4A0C-AB7F-C3EC5B5B202C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D1E-B355-4EFF-8BE3-1C5EB0212E92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5400" spc="-1" strike="noStrike">
                <a:solidFill>
                  <a:srgbClr val="e3e3ff"/>
                </a:solidFill>
                <a:latin typeface="Arial"/>
              </a:rPr>
              <a:t>Guns, Germs &amp; Stee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eographical look at history – inspired by Jared Dia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Conqu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 the 1400-1500s, Europeans set out with their new tools to conquer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sailed to Africa and America and used their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uns, germs, and stee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o take 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ding horses and armed with guns and germs (like small pox), they enslaved and killed many Africans and Americans and took over much of their 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said their conquest showed that white people were smarter, but Jared Diamond says it was because they had better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id people transition from nomadic tribes to settled communiti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low chart of key stages in this development from your Guns, Germs and Steel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Diagram 3" descr=""/>
          <p:cNvPicPr/>
          <p:nvPr/>
        </p:nvPicPr>
        <p:blipFill>
          <a:blip r:embed="rId1"/>
          <a:stretch/>
        </p:blipFill>
        <p:spPr>
          <a:xfrm>
            <a:off x="1523880" y="3333600"/>
            <a:ext cx="6096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Geography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the study of the earth</a:t>
            </a:r>
            <a:r>
              <a:rPr b="0" lang="ja-JP" sz="25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s land and peop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Latitud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lines that measure from North to South, often leading to changes in climate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(e.g. the Equa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Longitud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lines that measure from East to West, leading to changes in time zones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(e.g. the Prime Merid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Nomad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people who wander from place to place, following their food; hunter-gather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Domesticat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training plants and/or animals for human u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Sedentary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settled; staying in one pla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Specialization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developing special skills or train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Key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To what extent (how much) has history been shaped by geograp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Jared Diamond</a:t>
            </a:r>
            <a:r>
              <a:rPr b="0" lang="ja-JP" sz="4000" spc="-1" strike="noStrike">
                <a:solidFill>
                  <a:srgbClr val="e3e3ff"/>
                </a:solidFill>
                <a:latin typeface="Arial"/>
              </a:rPr>
              <a:t>’</a:t>
            </a: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s book:</a:t>
            </a:r>
            <a:br>
              <a:rPr sz="4000"/>
            </a:b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en-CA" sz="4000" spc="-1" strike="noStrike">
                <a:solidFill>
                  <a:srgbClr val="e3e3ff"/>
                </a:solidFill>
                <a:latin typeface="Arial"/>
              </a:rPr>
              <a:t>Guns, Germs &amp; Stee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1215" r="717" b="1215"/>
          <a:stretch/>
        </p:blipFill>
        <p:spPr>
          <a:xfrm>
            <a:off x="179280" y="1484280"/>
            <a:ext cx="5616720" cy="4678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40000" y="1628280"/>
            <a:ext cx="302436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Diamond says that geography has led different civilizations to develop at different r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 earliest people came from Eastern Africa and were </a:t>
            </a:r>
            <a:r>
              <a:rPr b="1" lang="en-CA" sz="2000" spc="-1" strike="noStrike">
                <a:solidFill>
                  <a:srgbClr val="00ffcc"/>
                </a:solidFill>
                <a:latin typeface="Arial"/>
              </a:rPr>
              <a:t>nomads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y spread across the world over time, stopping when and where they found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Geographic Luck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iamon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describes how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llowed people to develop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civiliz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irst they needed to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domesticat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plants and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is gave them a reliable source of food and allowed them to create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sedentary socie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they were able to grow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surplus (extra) foo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his led to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specializatio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, as some people developed crafts and trade rather than f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pecialization allowed them to develop increasingly complex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technology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, including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writing system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nd a form of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River Civiliz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sometimes began with a river, which provided a steady source of food and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any of the earliest civilizations developed around ri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Egypt depended on the Nile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Mesopotamia was in an area called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Fertile Crescen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between the Tigris &amp; Euphrates 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India developed between the Indus and Ganges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China developed along the Yangzi and Huang He (Yellow)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0" t="19238" r="0" b="0"/>
          <a:stretch/>
        </p:blipFill>
        <p:spPr>
          <a:xfrm>
            <a:off x="395280" y="3716280"/>
            <a:ext cx="82296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Foo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lants and animals were the key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ome plants and animals could be domesticated easily, providing large numbers of people with a reliable source of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lants in Europe, Asia &amp; North Africa included rice, wheat, and barle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Animals included pigs, cows, sheep and horses.  These could be used for food and also to help people with work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This allowed Asians and Europeans to develop sedentary society early and eventually led to large civilization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ther plants and animals were not easily domesticated, so people remained nomads (following their foo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st of the plants and animals in the Americas and Sub-Saharan Africa were wild, so they were not a reliable source of food or wor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As a result, people in Southern Africa and the Americas remained nomads for thousands of year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Latitude and Longitud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16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 shape of the continents was also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urope and Asia share similar latitudes, so the climate does not change much across the continents, and civilizations can easily spread with their plants, animals and techn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frica and the Americas have similar longitude, but very different latitudes.  As the latitude changes, so does the climate, making it very difficult to share ideas about food and far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s a result, large civilizations helped to conquer and spread technologies across Europe and Asia, while Africa and America remained less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ggspic1"/>
          <p:cNvPicPr/>
          <p:nvPr/>
        </p:nvPicPr>
        <p:blipFill>
          <a:blip r:embed="rId1"/>
          <a:srcRect l="771" t="0" r="771" b="0"/>
          <a:stretch/>
        </p:blipFill>
        <p:spPr>
          <a:xfrm>
            <a:off x="4500720" y="1844640"/>
            <a:ext cx="44305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 large civilizations developed in Europe and Asia, populations gr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se populations often shared cities and food sources, and were exposed to more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 people developed resistance to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erm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also developed advanced technologies, like ships and navigation tools that allowed them to sail across oceans exploring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inally, they fought with one-another, so they developed deadly weapons, including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un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steel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07:47Z</dcterms:created>
  <dc:creator>gh</dc:creator>
  <dc:description/>
  <dc:language>en-US</dc:language>
  <cp:lastModifiedBy>Microsoft Office User</cp:lastModifiedBy>
  <dcterms:modified xsi:type="dcterms:W3CDTF">2011-08-31T11:30:57Z</dcterms:modified>
  <cp:revision>6</cp:revision>
  <dc:subject/>
  <dc:title>Guns, Germs &amp; Steel</dc:title>
</cp:coreProperties>
</file>